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DC8-F481-4971-AAD0-80C3641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229-946A-4EAD-B7E8-E78FA181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B5A-32B7-4DA6-9A8B-C3B897FA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18F-14BB-4E13-8FC3-87F3602A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D80C-67A3-473A-BCFB-EBEA8ED7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EFFE-D1DF-4293-9139-8F744C63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1B5-9E6E-4F52-ADA8-DFEAADBA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5E3E-C2FA-4638-A66C-B45BE31E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AA1A-12AB-42AB-9768-0EAC2E82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2B98-49CB-47DF-AD1E-2928ADBB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70B4-ACD2-4BDB-9D32-128D206A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411-26ED-4135-A30F-B7754698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1C08-0001-40C1-AD82-704008E7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61E6-61B4-48D5-9C43-E4FFFE4A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F240-7029-4C1F-B923-46FF4269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2CD7-424B-455C-918D-850990A3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398C-58E1-4907-906A-D4228E7D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F99-4508-4898-B516-4B1BDC89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FD2-17CD-4BAF-B15F-2C2BFF16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D5C-A7BA-4266-80D7-66DD04F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163-1152-4F9E-A343-4BAE5DB4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952-9FF1-4842-AC23-62E68BE8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7F6-E01A-4B6E-A2C7-05540950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9CB-F0CE-4949-800A-F90FE25A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A8B-A2FA-460E-B516-3371F3AA0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8D51-98D8-4B4E-8F93-7ED37382B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The French Revolution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n the Eve of Revolution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Call for Revol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Clergy &amp; nobles want to keep privile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state wants more ______ equ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spirit of rebellion sp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king gathered more troops @___________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citizens feared king trying to dissolve National Assembl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Parisians Storm the Bastille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__________, 1789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angry mob of Parisians broke into Bastille to steal _______ to defend National Assemb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armed w/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freed 7 prison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prison commander &amp; soldiers kill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98 rioters kill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Bastille Prison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French Society Divided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________–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man Catholic cl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1% of populatio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owned ______ of the 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 income = tit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______ clergy- noble by bir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lived grand lifestyles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_____ clergy- poor background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carried out religious du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2nd Estat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-  ________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__% of the popul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owned 25% of 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lived in ____________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inherited land &amp; rented  to ___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income = from peasants who lived &amp; worked on their land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worked in government &amp; milit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4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 Estat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-___% of population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1.___________ – middle class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educated, enlightened thinkers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lived in towns &amp; cities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wealthy, but few political rights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2.artisans/urban workers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low wages &amp; poor working        conditions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lived mostly in _____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Peasant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largest group of 3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stat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owned ___% of the 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lived in ______ area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yments of the 3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stat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 _____ to cler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 dues &amp; fines to ______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land tax to 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Financial Troubles</a:t>
            </a:r>
            <a:br>
              <a:rPr sz="24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debt b/c _______ &amp; 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wa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expensive cour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clergy &amp; nobles refused to pay ______ issued by Louis XV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banks refused to lend government 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Louis XVI summoned 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Louis XVI Calls the Estates-General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Delegates represented each estate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couldn’t agree on fair way to 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3rd Estate created the _______ _________ &amp; joined by some reform-minded clergy &amp; no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met @ indoor tennis court w/deputies from other estat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Grievance Notebooks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uis XVI had each of the estates prepare cahiers with a list of griev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called for reforms such as fairer ______, freedom of the ______, and regular meetings of the Estates Gener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oemakers complained about the high cost of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the notebooks showed the boiling class 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Tennis Court oa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would not disband until had  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a written __________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Louis XVI ordered ____&amp; ___ Estates to join b/c fearfu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feared trouble &amp; called troops around 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0:54:23Z</dcterms:created>
  <dc:creator>Lawrence Public Schools</dc:creator>
  <dc:description/>
  <dc:language>en-US</dc:language>
  <cp:lastModifiedBy>shoyer</cp:lastModifiedBy>
  <dcterms:modified xsi:type="dcterms:W3CDTF">2007-12-12T15:55:28Z</dcterms:modified>
  <cp:revision>19</cp:revision>
  <dc:subject/>
  <dc:title>The French Revolution and Napoleon</dc:title>
</cp:coreProperties>
</file>